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FC3-9E75-4150-BA8D-33CB6A78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92F-0CEF-4D3A-B185-CF66ECB6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7144-636F-4DC5-9794-B8930A86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7E3-EC4F-4204-88DA-81629AA0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16DF-F190-45D5-AD27-C0C63296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253-7E07-41A2-BCD2-042F5670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715-FF75-47B8-812C-08155FAB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758-79F3-458A-A0FA-9F8C8EBE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B18-681E-42E9-9B45-2D216508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CAB-F1F6-4728-B311-5A3DCBFE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D31-8ACB-4C12-BD51-AD703D00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D54-B297-4D46-A5FA-8EF67E55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14FB-05BD-4D09-AB05-DCFF9F74D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LENIN IS MY HOMB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Y: KEITH D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laybill"/>
              </a:rPr>
              <a:t>VLADIMIR L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LED THE RUSSIAN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DEFEATED CZAR NICHOLA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CREATED THE UNION OF SOVIET SOCIALIST REPUBLICS, OR U.S.S.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SPREAD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laybill"/>
              </a:rPr>
              <a:t>REGARDED AS A HERO IN RUSSIA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RUSSIAN REVOLU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LED BY VLADIMIR LENIN AND HIS FOL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AGAINST THE CZ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LENIN AND HIS FOLLOWERS WERE VICTO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EVENT WAS IN 1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THE RISE OF ST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AFTER LENIN DIED, JOSEPH STALIN BECAME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HE WAS REGARED AS A GREAT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THE RUSSIAN PEOPLE DIDN’T LIKE STALIN AS A LEA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HE DIDN’T CARE FOR THE RUSSIA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stellar"/>
              </a:rPr>
              <a:t>stalin started the gulag, which were a series of government prison c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0:05:50Z</dcterms:created>
  <dc:creator> </dc:creator>
  <dc:description/>
  <dc:language>en-US</dc:language>
  <cp:lastModifiedBy> </cp:lastModifiedBy>
  <dcterms:modified xsi:type="dcterms:W3CDTF">2010-12-15T20:26:38Z</dcterms:modified>
  <cp:revision>4</cp:revision>
  <dc:subject/>
  <dc:title>LENIN IS MY HOMBOY</dc:title>
</cp:coreProperties>
</file>